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10D31-076A-4588-866C-E07B2861E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EA401-C24F-4EB6-B8BF-5E56E7C82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458A9-202B-4224-A767-EC673C095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5E8FB-720A-4872-BF67-501E89E4F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BEE86-A19B-41DF-B1D2-DA5E87EE9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08BDE-EB80-4EEE-9E10-370BA4035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F393C-5A7E-4869-BA62-9FB0F0FC6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88D3F-E912-4711-95AE-278B39E19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5FBAE-F731-4FC1-B6CB-DF4699DDA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6340C-B12B-4832-83B3-ECA1AABC7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BA484-E35D-4F1E-89CC-9B85174D1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BA72B-E2D6-4D25-A729-3A48D0581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98BE-3261-43B5-A045-E842B27AE4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ALIZA LOGICĂ A ARGUMENTELOR</a:t>
            </a:r>
            <a:br>
              <a:rPr sz="1400"/>
            </a:br>
            <a:endParaRPr b="0" lang="en-US" sz="1400" spc="-1" strike="noStrike">
              <a:solidFill>
                <a:srgbClr val="000000"/>
              </a:solidFill>
              <a:latin typeface="Calibri"/>
            </a:endParaRPr>
          </a:p>
        </p:txBody>
      </p:sp>
      <p:sp>
        <p:nvSpPr>
          <p:cNvPr id="42" name="PlaceHolder 2"/>
          <p:cNvSpPr>
            <a:spLocks noGrp="1"/>
          </p:cNvSpPr>
          <p:nvPr>
            <p:ph type="subTitle"/>
          </p:nvPr>
        </p:nvSpPr>
        <p:spPr>
          <a:xfrm>
            <a:off x="928800" y="3886200"/>
            <a:ext cx="7286400" cy="1752480"/>
          </a:xfrm>
          <a:prstGeom prst="rect">
            <a:avLst/>
          </a:prstGeom>
          <a:noFill/>
          <a:ln w="0">
            <a:noFill/>
          </a:ln>
        </p:spPr>
        <p:txBody>
          <a:bodyPr anchor="t">
            <a:noAutofit/>
          </a:bodyPr>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ea typeface="Arial"/>
              </a:rPr>
              <a:t>(Adaptat după </a:t>
            </a:r>
            <a:r>
              <a:rPr b="0" i="1" lang="ro-RO" sz="1100" spc="-1" strike="noStrike">
                <a:solidFill>
                  <a:srgbClr val="000000"/>
                </a:solidFill>
                <a:latin typeface="Arial"/>
                <a:ea typeface="Arial"/>
              </a:rPr>
              <a:t>Manualul de Logică și argumentare</a:t>
            </a:r>
            <a:r>
              <a:rPr b="0" i="1" lang="en-GB" sz="1100" spc="-1" strike="noStrike">
                <a:solidFill>
                  <a:srgbClr val="000000"/>
                </a:solidFill>
                <a:latin typeface="Arial"/>
                <a:ea typeface="Arial"/>
              </a:rPr>
              <a:t>,</a:t>
            </a:r>
            <a:r>
              <a:rPr b="0" i="1" lang="ro-RO" sz="1100" spc="-1" strike="noStrike">
                <a:solidFill>
                  <a:srgbClr val="000000"/>
                </a:solidFill>
                <a:latin typeface="Arial"/>
                <a:ea typeface="Arial"/>
              </a:rPr>
              <a:t> clasa a IX-a</a:t>
            </a:r>
            <a:r>
              <a:rPr b="0" lang="ro-RO" sz="1100" spc="-1" strike="noStrike">
                <a:solidFill>
                  <a:srgbClr val="000000"/>
                </a:solidFill>
                <a:latin typeface="Arial"/>
                <a:ea typeface="Arial"/>
              </a:rPr>
              <a:t>, Elena Lupșa, Victor Bratu, Maria Dorina Stoica</a:t>
            </a:r>
            <a:r>
              <a:rPr b="0" lang="it-IT" sz="1100" spc="-1" strike="noStrike">
                <a:solidFill>
                  <a:srgbClr val="000000"/>
                </a:solidFill>
                <a:latin typeface="Arial"/>
                <a:ea typeface="Arial"/>
              </a:rPr>
              <a:t>)</a:t>
            </a:r>
            <a:endParaRPr b="0" lang="en-US" sz="1100" spc="-1" strike="noStrike">
              <a:solidFill>
                <a:srgbClr val="000000"/>
              </a:solidFill>
              <a:latin typeface="Calibri"/>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5" name=""/>
          <p:cNvSpPr txBox="1"/>
          <p:nvPr/>
        </p:nvSpPr>
        <p:spPr>
          <a:xfrm>
            <a:off x="468360" y="1268280"/>
            <a:ext cx="4248000" cy="511344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mul, în calitatea sa ca fiinţă, are capacitatea de a cunoaşte. Obiectul cunoaşterii poate fi extern (real: animale, plante, substanţe chimice etc.) sau intern (ideal: idei, numere, figuri geometrice etc.). Cunoaşterea dobândită constă în caracteristici, proprietăţi, însuşiri, înţelesuri etc., toate acestea constituind noţiunea obiectului sau a clasei de obiecte.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rice noţiune are o anumită expresie lingvistică, constituită dintr-un cuvânt sau grup de cuvinte. Pe de altă parte, fiecare noţiune dă seama de un gen de obiecte, respectiv expresia lingvistică se aplică anumitor obiecte, ceea ce înseamnă că fiecărei noţiuni îi corespunde o anumită mulţime de obiect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oţiunea, expresia lingvistică şi mulţimea de obiecte corespondente constituie un termen.</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termen este un cuvânt sau un grup de cuvinte prin care se exprimă o noţiune, respectiv înţelesul termenului şi care se referă la unul sau mai multe obiecte despre care se afirmă noţiunea în cauz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ste, astfel, evident că în plan mintal trebuie să se vorbească de un anumit înţeles al termenului care constituie intensi</a:t>
            </a:r>
            <a:r>
              <a:rPr b="0" lang="en-GB" sz="1200" spc="-1" strike="noStrike">
                <a:solidFill>
                  <a:srgbClr val="000000"/>
                </a:solidFill>
                <a:latin typeface="Arial"/>
              </a:rPr>
              <a:t>un</a:t>
            </a:r>
            <a:r>
              <a:rPr b="0" lang="ro-RO" sz="1200" spc="-1" strike="noStrike">
                <a:solidFill>
                  <a:srgbClr val="000000"/>
                </a:solidFill>
                <a:latin typeface="Arial"/>
              </a:rPr>
              <a:t>ea termenului (numită şi conţinut), iar în plan real trebuie să se vorbească de referinţa termenului, adică de obiectele despre care se afirmă noţiunea corespondentă, ceea ce reprezintă extensiunea termenului (numită şi sferă). […]</a:t>
            </a:r>
            <a:r>
              <a:rPr b="0" lang="en-GB" sz="1200" spc="-1" strike="noStrike">
                <a:solidFill>
                  <a:srgbClr val="000000"/>
                </a:solidFill>
                <a:latin typeface="Arial"/>
              </a:rPr>
              <a:t> </a:t>
            </a:r>
            <a:endParaRPr b="0" lang="en-US" sz="1200" spc="-1" strike="noStrike">
              <a:solidFill>
                <a:srgbClr val="000000"/>
              </a:solidFill>
              <a:latin typeface="Calibri"/>
            </a:endParaRPr>
          </a:p>
        </p:txBody>
      </p:sp>
      <p:pic>
        <p:nvPicPr>
          <p:cNvPr id="46" name="" descr=""/>
          <p:cNvPicPr/>
          <p:nvPr/>
        </p:nvPicPr>
        <p:blipFill>
          <a:blip r:embed="rId1"/>
          <a:stretch/>
        </p:blipFill>
        <p:spPr>
          <a:xfrm>
            <a:off x="5148360" y="1700280"/>
            <a:ext cx="3267000" cy="326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a:t>
            </a:r>
            <a:r>
              <a:rPr b="0" lang="ro-RO" sz="1000" spc="-1" strike="noStrike">
                <a:solidFill>
                  <a:srgbClr val="000000"/>
                </a:solidFill>
                <a:latin typeface="Arial"/>
                <a:ea typeface="Arial"/>
              </a:rPr>
              <a:t>lucru</a:t>
            </a:r>
            <a:endParaRPr b="0" lang="en-US" sz="1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cizaţi care din următoarele cuvinte și grupuri de cuvinte reprezintă termeni și care nu:</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și, lecţie, numai, sunt, pisică, frumuseţe, neseriozitate, propoziţie compusă, un, această egal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rgument, total, pe, sub, mijloc, autoturism, predicat logic, falsitate, miros, miros plăcu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eci, post, plăcintă, peste, datorie, selecţie, care, cu, informaţie, activ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unct, orice, totalitate, unii, materie, toţi, călăreţ, sau, astfel încât, întinder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curt, într-o, cerinţă, ceva despre, sănătos, rătăcire, subiect, context, putem, obişnuinţ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cizaţi și reprezentaţi grafic raportul logic existent între următorii terme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riunghi, pătra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xtensiune, intensiu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oet, studen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major, persoană în vârstă de peste 20 a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notimp, primăvar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nalizaţi modificările pe care le cunosc intensiunea și extensiunea următorilor termeni prin adăugarea proprietăţilor preciz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intelectual+român;</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eren+agricol;</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ren+marfar;</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rgument+corectitudi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ermen+vid.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7:24:23Z</dcterms:created>
  <dc:creator>CNEE</dc:creator>
  <dc:description/>
  <dc:language>en-US</dc:language>
  <cp:lastModifiedBy>LiviaT</cp:lastModifiedBy>
  <dcterms:modified xsi:type="dcterms:W3CDTF">2012-03-15T08:15:51Z</dcterms:modified>
  <cp:revision>3</cp:revision>
  <dc:subject>CNEE</dc:subject>
  <dc:title>CNEE</dc:title>
</cp:coreProperties>
</file>